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FF6-442C-43C3-96E0-65753F15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757-15F1-4033-B11F-E1793520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269-C160-455B-992C-9F8A889F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328-B6A0-4155-A75B-99DF9656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3158-5BA8-4C6F-95EE-71798D82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3BA7-6C5F-4D9F-ABBC-9E882A69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13DB-EEA3-4F1F-AE9A-389D91DB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CDC3-C2AD-4B1E-B140-500CE751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523D-11F5-4503-865E-650DAD1D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1BD-3D1D-4297-8A57-7B72E4F1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F635-5BB9-4C9D-A861-4CFF45E8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FF6-2949-485D-9046-AB2AF90D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0E85-9EE9-498D-978F-0F108BFA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389A-2670-40B5-9864-29EC6A3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2A25-7239-4624-86B2-225F644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0FCB-4A89-48E6-9238-3D16D4EA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2F03-D3E9-467A-8EEF-49558BA6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2EF-BC6E-48AA-B58C-C3578DC3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E20-854A-4DDA-98DC-E35035FF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99D-9BBB-45F2-8A4C-A773141F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B7D-2BE3-4442-9735-EDB81A8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B67-25FC-418C-B35C-16FE7792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65A-311C-41A2-BA03-706FF13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AF4-907A-41A3-92BD-EB4F791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5313-5872-4464-B769-8184E36D9F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B9EF-6CB6-4EA1-809F-88CAF59C6E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НЕМОТЕХНИ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дагог-психолог – Давыдова Е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БОУ гимназии №586 Василеостровского района СП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27446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МОТЕХНИКА (или мнемоника) – от греческого mnemonikon - искусство запоминания, означает совокупность приемов и способов, облегчающих запоминание и увеличивающих объем памяти путем образования искусственных ассоциаций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ЗАКОНЫ ЗАПОМИНАНИЯ"/>
          <p:cNvPicPr/>
          <p:nvPr/>
        </p:nvPicPr>
        <p:blipFill>
          <a:blip r:embed="rId1"/>
          <a:stretch/>
        </p:blipFill>
        <p:spPr>
          <a:xfrm>
            <a:off x="762120" y="593640"/>
            <a:ext cx="723888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914400" y="245772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лучше запомнить материал к экзаменам, необходима постоянная тренировка памяти, хотя бы 20-25 минут в день. Продуктивность запоминания меняется в течение дня. Память наиболее цепкая и острая между 8 и 12 часами. Затем продуктивность запоминания начинает постепенно снижаться, а с 17 часов снова медленно растет и при отсутствии значительного утомления достигает высокого уровня в вечернее время (примерно к 19 часам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914400" y="3084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значение для запоминания имеют наши чувства и эмоции. Старайтесь придавать запоминаемому материалу эмоциональную окраску, вызывая у себя определенные чувства.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емотехнические прием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ссоциативные цепоч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етод римской комнаты (метод Цицерон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ф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звуч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7T16:09:48Z</dcterms:created>
  <dc:creator>Администратор</dc:creator>
  <dc:description/>
  <dc:language>en-US</dc:language>
  <cp:lastModifiedBy>admin</cp:lastModifiedBy>
  <dcterms:modified xsi:type="dcterms:W3CDTF">2017-03-06T13:23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